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803-64B0-454C-A36F-8489BB5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8B2-ECE0-425F-9D2F-3F20D78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993-6020-40FE-BCD5-56C2342C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94E-A9FB-4A6B-8359-12BBEACF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D84-7907-4B64-B622-09A4B777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046-2051-4589-BC03-20D55C2E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376-51D6-4842-9CAA-E040EEDC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6FB-E907-4685-813F-5D7FDE6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DF4-D8D9-42EC-BF19-9E004AE0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2A4-4506-4AFF-913B-05A5CB4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ED5-7962-4884-8ACB-310A78C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E85-8AAF-456D-8000-DB9B3C7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413-B3A0-49C1-812D-D12D9154D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6"/>
          <p:cNvSpPr/>
          <p:nvPr/>
        </p:nvSpPr>
        <p:spPr>
          <a:xfrm>
            <a:off x="595440" y="8340840"/>
            <a:ext cx="6022800" cy="1377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4"/>
          <p:cNvSpPr/>
          <p:nvPr/>
        </p:nvSpPr>
        <p:spPr>
          <a:xfrm>
            <a:off x="390600" y="979560"/>
            <a:ext cx="6251400" cy="7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 Narrow"/>
                <a:ea typeface="黑体"/>
              </a:rPr>
              <a:t>表面生长晶须对氧化铝陶瓷钎焊的影响规律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Narrow"/>
                <a:ea typeface="黑体"/>
              </a:rPr>
              <a:t>EFFECTS OF THE GROWN WHISKERS ON BRAZING OF ALU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87520" y="2476440"/>
            <a:ext cx="6054480" cy="916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79440" y="920880"/>
            <a:ext cx="604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59120" y="54000"/>
            <a:ext cx="29541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哈尔滨工业大学材料科学与工程学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第十三届研究生模拟国际学术会议</a:t>
            </a:r>
            <a:r>
              <a:rPr b="0" lang="en-US" sz="18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059720" y="1704960"/>
            <a:ext cx="23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材料加工工程学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级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博士，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教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618667@126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231840" y="208764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  <a:ea typeface="黑体"/>
              </a:rPr>
              <a:t>研究背景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黑体"/>
              </a:rPr>
              <a:t>/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263520" y="3452760"/>
            <a:ext cx="64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主要创新成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/Innovative Results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或研究思路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/ Research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581040" y="3781440"/>
            <a:ext cx="6037200" cy="4044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6"/>
          <p:cNvSpPr/>
          <p:nvPr/>
        </p:nvSpPr>
        <p:spPr>
          <a:xfrm>
            <a:off x="614520" y="8300880"/>
            <a:ext cx="59832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C. Feng, Z.C. Chen, X.G. Song, J. Cao. Wetting of microstructured alumina fabricated by epitaxial growth of Al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whiskers. Applied surface science, 2015, 357: 766-770.(1f=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 Cao, Z.J. Wang, Z. Chen, X.G. Song and J.C. Feng. Temperature-dependent transformation from whisker- to nanoparticle-strengthened composite interface in the Al2O3/Ag-based alloy system and mechanical properties of the joints. Materials Characterization, 2015, 109: 50-56. (1f=X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C. Feng, Z.J. Wang, X.G. Song and J. Cao. Joining of Al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via the epitaxial growth of aluminum borate whiskers for high-temperature applications. Materias Letters, 2016, 163: 231-235. (1f=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6" descr="HITLOGO.jpg"/>
          <p:cNvPicPr/>
          <p:nvPr/>
        </p:nvPicPr>
        <p:blipFill>
          <a:blip r:embed="rId1"/>
          <a:stretch/>
        </p:blipFill>
        <p:spPr>
          <a:xfrm>
            <a:off x="187200" y="100080"/>
            <a:ext cx="787680" cy="68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8"/>
          <p:cNvSpPr/>
          <p:nvPr/>
        </p:nvSpPr>
        <p:spPr>
          <a:xfrm>
            <a:off x="448200" y="79484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Arial"/>
                <a:ea typeface="黑体"/>
              </a:rPr>
              <a:t>代表性文章</a:t>
            </a:r>
            <a:r>
              <a:rPr b="0" lang="en-US" sz="1800" spc="-1" strike="noStrike">
                <a:solidFill>
                  <a:srgbClr val="604a7b"/>
                </a:solidFill>
                <a:latin typeface="Arial"/>
                <a:ea typeface="黑体"/>
              </a:rPr>
              <a:t>/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3"/>
          <p:cNvSpPr/>
          <p:nvPr/>
        </p:nvSpPr>
        <p:spPr>
          <a:xfrm>
            <a:off x="671400" y="7446960"/>
            <a:ext cx="20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1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Characterization of the grown whic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28560" y="2546280"/>
            <a:ext cx="59436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Al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仿宋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仿宋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 is widely used in numerous areas due to its ultra-high melting temperature, excellent oxidation resistance, and high strength. Fabrication of topographically altered surfaces is beneficial to wetting on alumina and increasing the quality of alumina brazing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2496960" y="6091200"/>
            <a:ext cx="40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2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Wetting curves on alu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2649600" y="7453440"/>
            <a:ext cx="19224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Microstructure of the whisker-coated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 j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MSE-LOGO.jpg"/>
          <p:cNvPicPr/>
          <p:nvPr/>
        </p:nvPicPr>
        <p:blipFill>
          <a:blip r:embed="rId2"/>
          <a:stretch/>
        </p:blipFill>
        <p:spPr>
          <a:xfrm>
            <a:off x="5748480" y="103320"/>
            <a:ext cx="966600" cy="70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E:\王义峰博士研究\paper\201506-07\Journal of the european ceramic society\上传\Fig. 9.jpg"/>
          <p:cNvPicPr/>
          <p:nvPr/>
        </p:nvPicPr>
        <p:blipFill>
          <a:blip r:embed="rId3"/>
          <a:stretch/>
        </p:blipFill>
        <p:spPr>
          <a:xfrm>
            <a:off x="4826160" y="6353280"/>
            <a:ext cx="1538280" cy="113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E:\王义峰博士研究\paper\201506-07\Ceramics international\Ceramics international 上传\Fig. 3.jpg"/>
          <p:cNvPicPr/>
          <p:nvPr/>
        </p:nvPicPr>
        <p:blipFill>
          <a:blip r:embed="rId4"/>
          <a:stretch/>
        </p:blipFill>
        <p:spPr>
          <a:xfrm>
            <a:off x="2690640" y="6389640"/>
            <a:ext cx="1863720" cy="10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E:\王义峰博士研究\paper\201504-06\Applied surface science 上传\修改\修改后上传\Fig. 1.jpg"/>
          <p:cNvPicPr/>
          <p:nvPr/>
        </p:nvPicPr>
        <p:blipFill>
          <a:blip r:embed="rId5"/>
          <a:stretch/>
        </p:blipFill>
        <p:spPr>
          <a:xfrm>
            <a:off x="947880" y="5402160"/>
            <a:ext cx="1495440" cy="208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5"/>
          <p:cNvSpPr/>
          <p:nvPr/>
        </p:nvSpPr>
        <p:spPr>
          <a:xfrm>
            <a:off x="752400" y="3841920"/>
            <a:ext cx="57736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1. Topographical microstructures were fabricated on alumina by epitaxial growth of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4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B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9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 whiskers in air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1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2. The time needed to reach the equilibrium wetting stage reduced as the temperature increased, and the final contact angle for liquid Ag-36.7Cu-8.0Ti at.% alloy on the rough surface was 27° at 880 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仿宋"/>
              </a:rPr>
              <a:t>℃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2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3. As the bonding temperature increased, the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/AgCuTi interface was found to transform from whisker- to nanoparticle-strengthened composite region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3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4. Both whiskers grown on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Times New Roman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 and the dispersive nanoscale products in the alloy played positive roles in improving the joint properties. 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4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3" descr="E:\王义峰博士研究\paper\201504-06\Applied surface science 上传\修改\修改后上传\Fig. 3.jpg"/>
          <p:cNvPicPr/>
          <p:nvPr/>
        </p:nvPicPr>
        <p:blipFill>
          <a:blip r:embed="rId6"/>
          <a:srcRect l="0" t="0" r="0" b="51314"/>
          <a:stretch/>
        </p:blipFill>
        <p:spPr>
          <a:xfrm>
            <a:off x="2496960" y="5402160"/>
            <a:ext cx="204336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E:\王义峰博士研究\paper\201504-06\Applied surface science 上传\修改\修改后上传\Fig. 3.jpg"/>
          <p:cNvPicPr/>
          <p:nvPr/>
        </p:nvPicPr>
        <p:blipFill>
          <a:blip r:embed="rId7"/>
          <a:srcRect l="0" t="48371" r="0" b="0"/>
          <a:stretch/>
        </p:blipFill>
        <p:spPr>
          <a:xfrm>
            <a:off x="4540320" y="5388120"/>
            <a:ext cx="2016000" cy="753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3"/>
          <p:cNvSpPr/>
          <p:nvPr/>
        </p:nvSpPr>
        <p:spPr>
          <a:xfrm>
            <a:off x="4659480" y="7459560"/>
            <a:ext cx="19224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4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Effect of whiskers on bend strength of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 j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4:27Z</dcterms:created>
  <dc:creator>system</dc:creator>
  <dc:description/>
  <dc:language>en-US</dc:language>
  <cp:lastModifiedBy>ladwaltz</cp:lastModifiedBy>
  <cp:lastPrinted>2015-12-01T08:28:43Z</cp:lastPrinted>
  <dcterms:modified xsi:type="dcterms:W3CDTF">2018-09-11T07:23:38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